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870-6C9F-4539-A186-7197789C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315-01DE-4EA2-8221-D478370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4C9-1076-4BC8-BCFE-DBC489AC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F33-CA74-46AA-B68D-A775967F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B61-D118-402F-AF6D-BB48DC0F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A24F-AAEB-4B96-9BA5-C84B375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822E-7DD7-4228-8B38-4304AAD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DEC2-0193-4820-8734-A1132EC9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3BB-987C-40E8-94E4-91BF5F03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353-94BC-4E31-9C08-67960FE6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417-E846-4482-9CDB-C836724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14D-AECD-43B2-8750-0528EDB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9E1-4E3D-4BA4-9B68-7F11F290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5CB0-2663-4661-81FC-CB8F5D4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925F-566B-4289-BF80-AC8B5E98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C55-2DEF-429F-9254-7B17F3E3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8A93-3FD1-452A-A7AE-219F9B87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82B-34A0-45ED-B716-1282349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58-4A8A-4E78-8F9A-BB01FB8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8A4-05AE-45E9-BFD0-C909869F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336-69EA-4D2A-B968-D901A88D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861-8403-4310-AAAB-B83F284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A2D-473C-44E7-AFA6-D52CAAA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8D8-7A16-4D99-BDA1-19CB00A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086A-A25A-4F32-9F12-547829F5C1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A5F-B3B3-451E-91F7-FE0B4082FB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Titles, Transitions, and still pictures to 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ections Wind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the media in the collections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324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still images to the time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clip in the Collections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 down the left mouse button, drag the clip into the tim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lip in the appropriate rect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lips can be re-ordered at will by clicking and dragging them to a different rectangle in the tim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3853080" cy="245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rans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effects will alter a video clip. Video transitions alters the time between clips. One clip can fade into another clip, can push another clip out of the fram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581640" cy="2381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3581280" y="5029200"/>
            <a:ext cx="19051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rans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181480" cy="4818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971440" y="3048120"/>
            <a:ext cx="20574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4382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nd drag a transition from the selection window to the rectangle between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Windows Movie Mak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Movie Maker allows a us to add titles, transitions, and still images to our mov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 to Movie Ma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Tasks bu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Edit Movie select Make Titles or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934320" cy="7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353040" cy="2050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5257440" y="4876920"/>
            <a:ext cx="160020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90960" y="18288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appropriate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781680" cy="50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2895480" y="1828800"/>
            <a:ext cx="19051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4419720"/>
            <a:ext cx="13716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5257800"/>
            <a:ext cx="18288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962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lete, click on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5105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animation style for th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486400" cy="401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9072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tyle of animation. Edit the text color or font if desired. Click on Done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titles can be put before the movie, on video clips, and/or at the end of the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ing Pic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vigate to the folder containing pictures to impo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and drag to select multiple pictures or hold the ctrl key while selecting pictur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he import butt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4114800"/>
            <a:ext cx="4317840" cy="2525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6629040" y="609588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ing pic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 are Imported into the collections window and are given a default length of 5 seconds. It is easier to change the default time length before the dip is im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&gt;Options&gt;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38520" cy="5086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05520" y="2743200"/>
            <a:ext cx="2209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391520" y="2514600"/>
            <a:ext cx="45720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55:33Z</dcterms:created>
  <dc:creator>OIT</dc:creator>
  <dc:description/>
  <dc:language>en-US</dc:language>
  <cp:lastModifiedBy>OIT</cp:lastModifiedBy>
  <dcterms:modified xsi:type="dcterms:W3CDTF">2007-03-11T17:26:03Z</dcterms:modified>
  <cp:revision>47</cp:revision>
  <dc:subject/>
  <dc:title>Windows Movie Maker</dc:title>
</cp:coreProperties>
</file>